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5B0E0-A226-452B-B000-CA22A1CAC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89CE-FCF4-4732-99F3-4546EDD21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F8E67-E4AD-481C-B1F2-04DA260BC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52D0B-0EB3-4101-BF57-B72657BA2B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16466-AA52-4753-8097-459F5577BD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FB66E-43AF-43BD-8444-89BC4CC557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5359C-78C8-4D8C-B9D7-A30A4B52A1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0AC06-E05C-4046-AB75-76AD72F04E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88B3B-FFD1-4A20-B418-2D79D5E582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D4C04-C581-41D9-8B48-9380412849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DE57B-2D47-4377-86E5-A29F7532FD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1C60F-8DB4-4971-91A8-16CC5FB0F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3CEAD-3F29-4A95-8072-D1208A4FC9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3CDE4-52D7-4F68-A78B-538EE01346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6BD07-D9FB-47FB-8256-BD22C3AC3D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D42DB-6428-464D-AD7D-A85670077C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BB6B9-5311-4625-B96E-7AD4ABBBD3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83D9-B707-4F89-9865-4687AE672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7D76B-7FFE-481D-BD9C-898DCF16F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DE3A0-1814-485D-8A7B-15F5CB1A9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34877-AC3A-425C-8EBC-D1D57426C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D7A9B-5289-46E5-A6FB-E267455BD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9D1EA-A4A4-42DE-BEAB-0C9804707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4A237-87C1-4C77-9530-F5344E51A3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601E-CBD9-4DE5-A6F2-70E65C1D41DA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5DDE-EF3B-4FA2-B96F-F4B674647B01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81356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Why do we get floods?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47280" y="5157720"/>
            <a:ext cx="6147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Where did all the water come from?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95480" y="1782720"/>
            <a:ext cx="5153040" cy="329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1F671-71EA-44A9-B164-944F3276DB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at’s righ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f there is not enough room in the river, then the water overflows the banks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ut what is the most usual reason why this happens – what event can occur to make the water in the river overflow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EDA8D-DE68-4B74-B66A-2CC3495112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Right again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6083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Heavy rain is the most usual event that happens right before a river floods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But not all the rain that floods out of the river, fell in it from the sky in the first place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Most of the water in the river came from the land either side and flowed into the river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4149720"/>
            <a:ext cx="3240360" cy="1511280"/>
          </a:xfrm>
          <a:prstGeom prst="cloudCallout">
            <a:avLst>
              <a:gd name="adj1" fmla="val -37504"/>
              <a:gd name="adj2" fmla="val 6995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What kind of rivers flood the most easily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716360" y="1197000"/>
            <a:ext cx="4010040" cy="258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5814-68DE-4FDC-AF33-4B9BA28575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It is not really the rivers it is what goes on around them that matter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Remember most of the water lands on the sides of the river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How much of this ends up in the river depends on a number of things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10920" y="5516280"/>
            <a:ext cx="8281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rcRect l="0" t="13643" r="0" b="10756"/>
          <a:stretch/>
        </p:blipFill>
        <p:spPr>
          <a:xfrm>
            <a:off x="684360" y="2421000"/>
            <a:ext cx="2581200" cy="792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11280" y="34290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teep or flatter valley sides?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3635280" y="2276640"/>
            <a:ext cx="1224000" cy="931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5076720" y="2276640"/>
            <a:ext cx="1122480" cy="1152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492360" y="357336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Grassy or wooded valley sides?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6588000" y="2205000"/>
            <a:ext cx="1078200" cy="1006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7812000" y="2205000"/>
            <a:ext cx="1117800" cy="1117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227640" y="34290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cent weather: sunshine or rain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E9EBC-E0EE-497B-AC5A-A96AC2C0EC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09:52:10Z</dcterms:created>
  <dc:creator>Lindy</dc:creator>
  <dc:description/>
  <dc:language>en-US</dc:language>
  <cp:lastModifiedBy>Lindy</cp:lastModifiedBy>
  <dcterms:modified xsi:type="dcterms:W3CDTF">2009-02-08T11:26:00Z</dcterms:modified>
  <cp:revision>3</cp:revision>
  <dc:subject/>
  <dc:title>Why do we get flood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